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CCE6-C010-4C14-8382-396DBD259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34C0-883A-4455-A2D8-8ED20F5DE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AF36-DF16-4B1D-A195-17A0A29CD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5474-93FD-4F0D-929E-028C2E056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8E38-9B08-4082-AD6D-9984D8DDB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8A2C-E5D1-4A6B-8AC9-0EE0ABFE3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B671-AC83-425F-BEED-2A4341751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532E-0A05-42E8-8383-492A4483D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8B21-7877-4C3B-8487-F7B046C2A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6FB9-E0A0-47FA-87EC-CFE9A1483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49B9-45A3-467C-A0DD-894668F07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55CD-8C98-493C-B6CB-91CFE3FFD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12E44-CF1D-4A65-AC58-C720C50002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Raisin in the S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rraine Hansber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isin Re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will be working in groups to research background knowledg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group will be working together on a packet of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oup is responsible for ALL questions in the pack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ile in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sure to answer all the ques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 to rdonoghue.wikispaces.com for links to websites. ALSO USE GOOG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ions for the Scrapbook are in the back. This is homework due Mon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pendent reading day tomo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eam Cloud due Fri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 in all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all of the Wil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lass work sheets for the chapters by Friday. (Extras will be available tomorro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ra Credit extended to Tuesday 12/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5T14:14:29Z</dcterms:created>
  <dc:creator>RVCSchools</dc:creator>
  <dc:description/>
  <dc:language>en-US</dc:language>
  <cp:lastModifiedBy>RVCSchools</cp:lastModifiedBy>
  <dcterms:modified xsi:type="dcterms:W3CDTF">2010-12-15T14:14:44Z</dcterms:modified>
  <cp:revision>2</cp:revision>
  <dc:subject/>
  <dc:title>A Raisin in the Sun</dc:title>
</cp:coreProperties>
</file>